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F09-AB9B-41E5-B7DC-F7652D5A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7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last session we saw David running for his life away from  Sa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ath he found himself in danger among the Philistines, and pretended he was insane. The king sent him away from G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esson today David will move into the Cave of Adull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ly tel Zif today. About 3 miles southeast of Heb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precise picture of Ziph, we wanted to give you a picture of the area crossed by David as he continues to run from the threat of Sau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ph: This and the surrounding area (Wilderness of Ziph) was one of the hideouts of David when he was fleeing from Saul (1 Sam. 23:14). The Ziphites twice revealed David's hiding place to Saul. Near here David spared Saul's life when he and Abishai entered Saul's camp at night (1 Sam. 26: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flees to the cave of Adullam, where he is joined by 400 men of various descriptions, v. 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es afterward to Moab; and by the advice of the prophet Gad, to the forest of Hareth, v. 3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suspecting his servants of infidelity, upbraids them, v. 6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g informs him of David's coming to Nob; of his being entertained by Ahimelech; upon which Saul kills Ahimelech and all the 85 priests, and destroys the city of Nob, v. 9-1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athar, the son of Ahimelech, only escapes; he joins with David, by whom he is assured of protection, v. 20-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lieved to be the cave that David went to in Adul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e view the places that David escapes to, we also need to have in mind the places that Saul operates from in his pursuit of Dav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verse it does not seem possible that ‘Ramah and Gibeah can be the place of Saul’s camp at the same time.  See vers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eems that “Ramah” means “height”. Thus, in this verse Saul is in Gibeah under a tamarisk tree in a height (Ramah), but not the city Ramah that was several miles north of Gibeah.  How could Saul be in both cities under the same tamarisk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possible routes that David could take to Mizpah of Mo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thern route around the Dead Sea does not seem l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ew of the fact that David passes through various places in the Judean wilderness, it seems that we should view the southern route as most 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care of his parents, got a safe place for them in Moab, and then came back into Ju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zpah of Moab is not precisely determined. Since it means “watchtower”, there was a most noteworthy watchtower that stood out in the mind of the biblical writer.  It is not known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st of Hereth is thought by some to be about two miles south of Ziph. Some think it is at the village of Kharas near Keil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Khirbet Qila.  8 miles northwest of Hebron. 18 miles southwest of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and his men rescued Keilah from the Philistine attack, but withdrew from there thinking they would hand him over to Sa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saves Keilah, besieged by the Philistines; defeats them, and delivers the city, v. 1-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hearing that David was at Keilah, determines to come and seize him, v. 7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inquires of the Lord concerning the fidelity of the men of Keilah towards him; is informed that if he stays in the city, the men of Keilah will betray him to Saul, v. 9-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and his men escape from the city, and come to the wilderness of Ziph, v. 13-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8B6-A9DA-431C-92DB-0B47448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52A-600A-4312-8940-B9337D8E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6AA-4493-47AA-A2EA-9EC60F2A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840-7988-49EE-B43C-409BBCA6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031C0-101D-43EC-B7A3-55AB57E0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B50F8-2061-456E-955D-2C4DF55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F8F8-2A0D-4113-BD73-685B403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E745A-5264-43E9-9D7E-AFB2039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E9E63-2963-4BFF-81ED-682B860C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6AE6B-FC99-4C67-8158-3D23E65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85BB-F370-4D72-A23D-4D82168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B09-D79E-41C1-B5FE-629E46B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2A388-7BF3-4F65-AA40-A1F2FDC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9F9AE-1CA5-4C0E-86FB-D0667D3E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2D9E1-8722-4DF4-83E8-83D3F75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A45AF-DC3E-42F7-9F58-A21B480D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C627A-0670-4A5A-8179-F4EB8F41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E79-D1E7-41B5-9380-4369BD47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ECE-8951-4E02-BD3D-F3A925A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AD5-A715-413D-AABF-2A71CEA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FE3-F0BB-43E4-AC4F-6791FB21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E2F-6A97-4024-AC43-D3D3D61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5DB-780F-4DB5-8FC8-F98E96D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DC8-3ABC-406A-8FCB-2FF1B66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203-4AD5-4764-BC4F-7E31EB8B5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74E5-2D50-44F4-B389-34DD4D8A9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United Kingd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4, Lesson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Sam. 22 – 23:14; Psa.142,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s. 31-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708120"/>
            <a:ext cx="8458200" cy="549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05520" y="3124080"/>
            <a:ext cx="68580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28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erial View of Judean Wilder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40240" cy="4724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4952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ullam from S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67160" y="0"/>
            <a:ext cx="5676840" cy="4029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33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ullam area view from 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657600" y="4084560"/>
            <a:ext cx="3962520" cy="275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533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ide View of Cave of Adul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95280" y="14144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utside View of Cave of Adul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8839080" cy="573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2286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here Saul Is Located At The Time David Is On The 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00400" y="990720"/>
            <a:ext cx="990720" cy="3124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34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04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rom Gath To Cave of Adullam To Mizp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76920"/>
            <a:ext cx="30492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38480" y="4648320"/>
            <a:ext cx="1067040" cy="30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4648320"/>
            <a:ext cx="75960" cy="99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324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zpah means “watchtower”. Precise Moab location unkn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81480" y="4724280"/>
            <a:ext cx="2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5029200"/>
            <a:ext cx="685800" cy="762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5791320"/>
            <a:ext cx="38088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10080" y="1219320"/>
            <a:ext cx="340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vid's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806400"/>
            <a:ext cx="8610480" cy="5591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7238520" y="563868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333760" y="3276360"/>
            <a:ext cx="1904760" cy="2361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Mizpah of Moab to Forest of Hereth to Keilah is  David’s Ro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304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ilah From The 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733920" y="380880"/>
            <a:ext cx="16002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il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11:25Z</dcterms:created>
  <dc:creator>Terry W. Benton</dc:creator>
  <dc:description/>
  <dc:language>en-US</dc:language>
  <cp:lastModifiedBy>Terry W. Benton</cp:lastModifiedBy>
  <dcterms:modified xsi:type="dcterms:W3CDTF">2005-04-19T00:49:01Z</dcterms:modified>
  <cp:revision>5</cp:revision>
  <dc:subject/>
  <dc:title>The United Kingdom</dc:title>
</cp:coreProperties>
</file>